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B77D-4048-4DA9-A3AC-743B120F9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41C5-20F2-4ABD-8B92-FA1ED0F63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824E-5ECA-40CC-8C5C-FBC1B6C5C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1755-1245-44A1-AEE8-1AB195163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0DA0E1-E027-48A8-912C-DC59F5965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78F1C4-DADE-4573-9643-2681F2845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F616FD-DAC6-429C-93EC-740873F1C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B33D6D-0256-4279-91E4-64A1892BD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B1F60E-2929-4AE1-A032-2EFF4AFBB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FCD865-8AE6-46ED-BD5F-8F56BF7CD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35CB5A-75E0-4C1E-9007-4CA5A3C1C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95E4-8717-488C-A1DD-3D3470A43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C1C0FE-9B3B-468A-96B3-502AECD1B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04066F-6CD7-49E2-96E5-5B41AB538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99FBA4-DDEE-48DD-9352-D10BB732B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75318D-B057-4513-904C-BB43C241C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4CA476-06B7-4646-8AB5-F2FC38AC8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4357-14D5-42C2-A738-FF8D23918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7003-6762-40A2-8853-D425C4039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14AA-8BB3-40B7-93FD-7E7C022A1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0BBD-283F-4C0B-80C9-E1947C9ED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D093-0972-442D-A48F-A7F15F4F1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2987-77A8-4D56-8736-6520C1361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B503-5D2C-46FF-9E99-9BDEB09FA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5406F-9768-4FAF-9BD1-C419CAF5734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E2CB5-0134-4459-9708-E30421E1627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e3e3ff"/>
                </a:solidFill>
                <a:latin typeface="Arial"/>
              </a:rPr>
              <a:t>QUIS SUM?</a:t>
            </a: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ad </a:t>
            </a: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ECCE RŌMĀN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pages 28 to 31 to answer these questio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out characters from the </a:t>
            </a: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Aenei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A23E8-4DBE-400F-853A-7926D6C9899C}" type="slidenum">
              <a:rPr b="0" lang="en-US" sz="4400" spc="-1" strike="noStrike">
                <a:solidFill>
                  <a:srgbClr val="e3e3ff"/>
                </a:solidFill>
                <a:latin typeface="Arial"/>
              </a:rPr>
              <a:t>&lt;number&gt;</a:t>
            </a:fld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QUIS SUM?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4956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am the mightiest and handsomest Greek warrior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illed by PARIS’ arrow in my only vulnerable spot, my heel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IS SUM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029200" y="1600200"/>
            <a:ext cx="3657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cccc"/>
                </a:solidFill>
                <a:latin typeface="Arial"/>
              </a:rPr>
              <a:t>Achill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2F443-EB2A-4580-9FF7-CC7C15466E98}" type="slidenum">
              <a:rPr b="0" lang="en-US" sz="4400" spc="-1" strike="noStrike">
                <a:solidFill>
                  <a:srgbClr val="e3e3ff"/>
                </a:solidFill>
                <a:latin typeface="Arial"/>
              </a:rPr>
              <a:t>&lt;number&gt;</a:t>
            </a:fld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QUIS SUM?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4956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am heir to the throne of Troy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the best Trojan warrior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illed and dishonored by ACHILLE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IS SUM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029200" y="1600200"/>
            <a:ext cx="3657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cccc"/>
                </a:solidFill>
                <a:latin typeface="Arial"/>
              </a:rPr>
              <a:t>Hecto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3FB0A-2F55-4AA6-9625-426DE630E2AA}" type="slidenum">
              <a:rPr b="0" lang="en-US" sz="4400" spc="-1" strike="noStrike">
                <a:solidFill>
                  <a:srgbClr val="e3e3ff"/>
                </a:solidFill>
                <a:latin typeface="Arial"/>
              </a:rPr>
              <a:t>&lt;number&gt;</a:t>
            </a:fld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QUIS SUM?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029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am the goddess of wisdom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protector of the city of PRIAM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IS SUM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790960" y="1600200"/>
            <a:ext cx="2895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cccc"/>
                </a:solidFill>
                <a:latin typeface="Arial"/>
              </a:rPr>
              <a:t>Minerva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cccc"/>
                </a:solidFill>
                <a:latin typeface="Arial"/>
              </a:rPr>
              <a:t>(Athena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DE514-29E1-4235-A5C3-6E77D4AC74E2}" type="slidenum">
              <a:rPr b="0" lang="en-US" sz="4400" spc="-1" strike="noStrike">
                <a:solidFill>
                  <a:srgbClr val="e3e3ff"/>
                </a:solidFill>
                <a:latin typeface="Arial"/>
              </a:rPr>
              <a:t>&lt;number&gt;</a:t>
            </a:fld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QUIS SUM?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4956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am said to be a gift to ATHEN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t I am really a trick built by the Greek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IS SUM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87656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cccc"/>
                </a:solidFill>
                <a:latin typeface="Arial"/>
              </a:rPr>
              <a:t>Trojan Hor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cccc"/>
                </a:solidFill>
                <a:latin typeface="Arial"/>
              </a:rPr>
              <a:t>(Wooden Horse)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BCBF8-4F5D-40B0-8E8C-78FE5740CD37}" type="slidenum">
              <a:rPr b="0" lang="en-US" sz="4400" spc="-1" strike="noStrike">
                <a:solidFill>
                  <a:srgbClr val="e3e3ff"/>
                </a:solidFill>
                <a:latin typeface="Arial"/>
              </a:rPr>
              <a:t>&lt;number&gt;</a:t>
            </a:fld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QUIS SUM?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029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am also called Odysseus, hero of the great Greek epics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clever mastermind of  THE TROJAN HORS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IS SUM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638320" y="1600200"/>
            <a:ext cx="3048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cccc"/>
                </a:solidFill>
                <a:latin typeface="Arial"/>
              </a:rPr>
              <a:t>Ulyss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13EB3-BB8C-4BDF-AAF8-502DB97320EB}" type="slidenum">
              <a:rPr b="0" lang="en-US" sz="4400" spc="-1" strike="noStrike">
                <a:solidFill>
                  <a:srgbClr val="e3e3ff"/>
                </a:solidFill>
                <a:latin typeface="Arial"/>
              </a:rPr>
              <a:t>&lt;number&gt;</a:t>
            </a:fld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QUIS SUM?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105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am the blind poet who told the tales of the Trojan War in the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Ilia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the wanderings of ULYSSES in the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Odyssey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IS SUM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790960" y="1600200"/>
            <a:ext cx="2895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cccc"/>
                </a:solidFill>
                <a:latin typeface="Arial"/>
              </a:rPr>
              <a:t>Homer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12F25-1EB4-4E9B-AC42-E32EF99DDA19}" type="slidenum">
              <a:rPr b="0" lang="en-US" sz="4400" spc="-1" strike="noStrike">
                <a:solidFill>
                  <a:srgbClr val="e3e3ff"/>
                </a:solidFill>
                <a:latin typeface="Arial"/>
              </a:rPr>
              <a:t>&lt;number&gt;</a:t>
            </a:fld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QUIS SUM?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181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will later be called Iulus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 a little boy I escaped with my father, AENEAS, from the burning city of Troy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IS SUM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867280" y="1600200"/>
            <a:ext cx="2819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cccc"/>
                </a:solidFill>
                <a:latin typeface="Arial"/>
              </a:rPr>
              <a:t>Ascaniu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3EB04-CF0A-4936-BA7E-CB1DE5142F26}" type="slidenum">
              <a:rPr b="0" lang="en-US" sz="4400" spc="-1" strike="noStrike">
                <a:solidFill>
                  <a:srgbClr val="e3e3ff"/>
                </a:solidFill>
                <a:latin typeface="Arial"/>
              </a:rPr>
              <a:t>&lt;number&gt;</a:t>
            </a:fld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QUIS SUM?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952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am a Trojan princess and the mother of ASCANIUS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y husband searched for me, but I perished in the fall of Troy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IS SUM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638320" y="1600200"/>
            <a:ext cx="3048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cccc"/>
                </a:solidFill>
                <a:latin typeface="Arial"/>
              </a:rPr>
              <a:t>Creusa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EEAED-4C82-4BB6-86E9-B1D53A7F4056}" type="slidenum">
              <a:rPr b="0" lang="en-US" sz="4400" spc="-1" strike="noStrike">
                <a:solidFill>
                  <a:srgbClr val="e3e3ff"/>
                </a:solidFill>
                <a:latin typeface="Arial"/>
              </a:rPr>
              <a:t>&lt;number&gt;</a:t>
            </a:fld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QUIS SUM?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952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am the Phoenician queen of Carthage, a city that would later be Rome’s enemy in the Punic War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aided AENEA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IS SUM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638320" y="1600200"/>
            <a:ext cx="3048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cccc"/>
                </a:solidFill>
                <a:latin typeface="Arial"/>
              </a:rPr>
              <a:t>Dido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4F792-365C-4596-9FF1-FFFB81D62E93}" type="slidenum">
              <a:rPr b="0" lang="en-US" sz="4400" spc="-1" strike="noStrike">
                <a:solidFill>
                  <a:srgbClr val="e3e3ff"/>
                </a:solidFill>
                <a:latin typeface="Arial"/>
              </a:rPr>
              <a:t>&lt;number&gt;</a:t>
            </a:fld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QUIS SUM?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952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am the king of Latium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welcomed AENEAS to my land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IS SUM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638320" y="1600200"/>
            <a:ext cx="3048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cccc"/>
                </a:solidFill>
                <a:latin typeface="Arial"/>
              </a:rPr>
              <a:t>Latinu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</a:t>
            </a:r>
            <a:fld id="{61C6F211-54CF-429E-94EB-07E27A8A7DDB}" type="slidenum">
              <a:rPr b="0" lang="en-US" sz="4400" spc="-1" strike="noStrike">
                <a:solidFill>
                  <a:srgbClr val="e3e3ff"/>
                </a:solidFill>
                <a:latin typeface="Arial"/>
              </a:rPr>
              <a:t>&lt;number&gt;</a:t>
            </a:fld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QUIS SUM?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648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am a wandering strange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o became father of the “Latin” peop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the heroic ancestor of the Roman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IS SUM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410080" y="1600200"/>
            <a:ext cx="3276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cccc"/>
                </a:solidFill>
                <a:latin typeface="Arial"/>
              </a:rPr>
              <a:t>Aenea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3DC35-A4BE-420F-8FBC-E6FE3B973928}" type="slidenum">
              <a:rPr b="0" lang="en-US" sz="4400" spc="-1" strike="noStrike">
                <a:solidFill>
                  <a:srgbClr val="e3e3ff"/>
                </a:solidFill>
                <a:latin typeface="Arial"/>
              </a:rPr>
              <a:t>&lt;number&gt;</a:t>
            </a:fld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QUIS SUM?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952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am the daughter of LATINUS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became Aeneas’ second wif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IS SUM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638320" y="1600200"/>
            <a:ext cx="3048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cccc"/>
                </a:solidFill>
                <a:latin typeface="Arial"/>
              </a:rPr>
              <a:t>Lavinia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4B3C9-4324-46D0-99F8-F2C747F2F05B}" type="slidenum">
              <a:rPr b="0" lang="en-US" sz="4400" spc="-1" strike="noStrike">
                <a:solidFill>
                  <a:srgbClr val="e3e3ff"/>
                </a:solidFill>
                <a:latin typeface="Arial"/>
              </a:rPr>
              <a:t>&lt;number&gt;</a:t>
            </a:fld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QUIS SUM?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am the author of the epic tale of AENEAS’ travel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IS SUM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257440" y="1600200"/>
            <a:ext cx="3429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Vergil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Publius Vergilius Maro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40086-7D07-4E2E-B37E-A2C04E9F52BC}" type="slidenum">
              <a:rPr b="0" lang="en-US" sz="4400" spc="-1" strike="noStrike">
                <a:solidFill>
                  <a:srgbClr val="e3e3ff"/>
                </a:solidFill>
                <a:latin typeface="Arial"/>
              </a:rPr>
              <a:t>&lt;number&gt;</a:t>
            </a:fld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QUIS SUM?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648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am the mortal father of AENEAS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o bravely rescued me from Troy in its final mome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IS SUM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333760" y="1600200"/>
            <a:ext cx="33526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cccc"/>
                </a:solidFill>
                <a:latin typeface="Arial"/>
              </a:rPr>
              <a:t>Anchis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DB892-93EB-493F-9FA1-BA3E87C12150}" type="slidenum">
              <a:rPr b="0" lang="en-US" sz="4400" spc="-1" strike="noStrike">
                <a:solidFill>
                  <a:srgbClr val="e3e3ff"/>
                </a:solidFill>
                <a:latin typeface="Arial"/>
              </a:rPr>
              <a:t>&lt;number&gt;</a:t>
            </a:fld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QUIS SUM?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724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am the goddess of love and beaut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the mother of AENEAS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have a constant feud with the goddess Juno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IS SUM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410080" y="1600200"/>
            <a:ext cx="3276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cccc"/>
                </a:solidFill>
                <a:latin typeface="Arial"/>
              </a:rPr>
              <a:t>Venu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cccc"/>
                </a:solidFill>
                <a:latin typeface="Arial"/>
              </a:rPr>
              <a:t>(Aphrodite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</a:t>
            </a:r>
            <a:fld id="{A6714E2C-7FB4-41DD-A4BD-943403BCF418}" type="slidenum">
              <a:rPr b="0" lang="en-US" sz="4400" spc="-1" strike="noStrike">
                <a:solidFill>
                  <a:srgbClr val="e3e3ff"/>
                </a:solidFill>
                <a:latin typeface="Arial"/>
              </a:rPr>
              <a:t>&lt;number&gt;</a:t>
            </a:fld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QUIS SUM?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572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am a Trojan prince raised as a shepherd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selected VENUS in a beauty contest of goddesses and started a war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IS SUM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333760" y="1600200"/>
            <a:ext cx="33526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cccc"/>
                </a:solidFill>
                <a:latin typeface="Arial"/>
              </a:rPr>
              <a:t>Pari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BDD23-2299-4FD2-8626-33CCB9C5194C}" type="slidenum">
              <a:rPr b="0" lang="en-US" sz="4400" spc="-1" strike="noStrike">
                <a:solidFill>
                  <a:srgbClr val="e3e3ff"/>
                </a:solidFill>
                <a:latin typeface="Arial"/>
              </a:rPr>
              <a:t>5</a:t>
            </a:fld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QUIS SUM?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572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am the king of the walled city of Tro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the father of many sons, including PARIS and HECTO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IS SUM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333760" y="1600200"/>
            <a:ext cx="33526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cccc"/>
                </a:solidFill>
                <a:latin typeface="Arial"/>
              </a:rPr>
              <a:t>Pria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</a:t>
            </a:r>
            <a:fld id="{02C67B23-F1E5-4D31-832E-C56C620719F0}" type="slidenum">
              <a:rPr b="0" lang="en-US" sz="4400" spc="-1" strike="noStrike">
                <a:solidFill>
                  <a:srgbClr val="e3e3ff"/>
                </a:solidFill>
                <a:latin typeface="Arial"/>
              </a:rPr>
              <a:t>&lt;number&gt;</a:t>
            </a:fld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QUIS SUM?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724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am the queen of Sparta, given as a prize to PARIS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cause I am the most beautiful woman in the world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IS SUM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3760" y="1600200"/>
            <a:ext cx="33526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cccc"/>
                </a:solidFill>
                <a:latin typeface="Arial"/>
              </a:rPr>
              <a:t>Hele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89039-2667-4CE0-A866-6B68E4C99F83}" type="slidenum">
              <a:rPr b="0" lang="en-US" sz="4400" spc="-1" strike="noStrike">
                <a:solidFill>
                  <a:srgbClr val="e3e3ff"/>
                </a:solidFill>
                <a:latin typeface="Arial"/>
              </a:rPr>
              <a:t>&lt;number&gt;</a:t>
            </a:fld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QUIS SUM?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4956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am the king of Spart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the outraged husband of HELEN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IS SUM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333760" y="1600200"/>
            <a:ext cx="33526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cccc"/>
                </a:solidFill>
                <a:latin typeface="Arial"/>
              </a:rPr>
              <a:t>Menelau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3EE80-F237-4274-A6BD-01AA776B828D}" type="slidenum">
              <a:rPr b="0" lang="en-US" sz="4400" spc="-1" strike="noStrike">
                <a:solidFill>
                  <a:srgbClr val="e3e3ff"/>
                </a:solidFill>
                <a:latin typeface="Arial"/>
              </a:rPr>
              <a:t>&lt;number&gt;</a:t>
            </a:fld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QUIS SUM?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4956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am the high king of all the Greeks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other of MENELAUS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father of famous children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IS SUM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029200" y="1600200"/>
            <a:ext cx="3657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cccc"/>
                </a:solidFill>
                <a:latin typeface="Arial"/>
              </a:rPr>
              <a:t>Agamemn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5T04:14:24Z</dcterms:created>
  <dc:creator>Bellos Nisan</dc:creator>
  <dc:description/>
  <dc:language>en-US</dc:language>
  <cp:lastModifiedBy>Bellos Nisan</cp:lastModifiedBy>
  <dcterms:modified xsi:type="dcterms:W3CDTF">2009-10-05T06:04:49Z</dcterms:modified>
  <cp:revision>5</cp:revision>
  <dc:subject/>
  <dc:title>QUIS SUM? </dc:title>
</cp:coreProperties>
</file>